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EBC25-031B-4935-A109-59860F5C0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C6049-3B6A-4199-BD52-165C242A0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8B22B-E9D3-4A5F-A004-F2AAD1E7B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224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084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224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084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D134F-773D-4DFB-ADA4-F4A13308C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12560" y="158760"/>
            <a:ext cx="83962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0356-A068-4993-B178-5BD02AA238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564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564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224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084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224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084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78121-CD15-4BAB-82CA-C44D056B9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A049A-1CAB-42D2-847C-30494308E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97CBB-1277-4EF7-8530-393F5C6AE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2560" y="158760"/>
            <a:ext cx="83962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9E43C-AF03-40A1-9C47-6DC00F3AF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CFB51-E012-4501-AC44-7DFC99BDD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81A82-6DA8-45E6-A039-386E2AA006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E1E5C-98A5-43FB-9242-59C270BE9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68407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-833" t="-1153" r="-833" b="-1729"/>
          <a:stretch/>
        </p:blipFill>
        <p:spPr>
          <a:xfrm>
            <a:off x="7834320" y="6311880"/>
            <a:ext cx="1035000" cy="30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0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001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00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001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12560" y="6422400"/>
            <a:ext cx="29574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3a0e66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Times New Roman"/>
                <a:ea typeface="新細明體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4176720" y="6392160"/>
            <a:ext cx="790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3a0e66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ABD4-2FEF-4867-A7B0-6B79BCF4CB22}" type="slidenum">
              <a:rPr b="0" lang="de-DE" sz="1200" spc="-1" strike="noStrike">
                <a:solidFill>
                  <a:srgbClr val="3a0e66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63080" cy="6854760"/>
            <a:chOff x="0" y="0"/>
            <a:chExt cx="9163080" cy="68547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63080" cy="68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rcRect l="-833" t="-1153" r="-833" b="-1729"/>
            <a:stretch/>
          </p:blipFill>
          <p:spPr>
            <a:xfrm>
              <a:off x="7834320" y="6311880"/>
              <a:ext cx="1035000" cy="30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80880" y="6422400"/>
            <a:ext cx="29577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001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00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001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Change Lis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498132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arch 200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40520" y="1413000"/>
            <a:ext cx="274140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Mov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be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08/06 to 10/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dfinch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07/06 to 08/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rlin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08/06 to 09/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spe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06/06 to 07/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set Bluetoot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ereo (HHB-180)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03/06 to 05/06 (Europ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Cancell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mes C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Changes vs. Roadmap from January 2006 </a:t>
            </a: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1413000"/>
            <a:ext cx="2647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New Produc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mes C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es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w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2920" y="1413000"/>
            <a:ext cx="273204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Product launch nam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ilippe: C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ft: EL7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ross C1A: EF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lysses B1: S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dora B2: EF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mes B1: E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mes C5: CF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Most important changes in the B2B communication section:</a:t>
            </a: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125360"/>
            <a:ext cx="81532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eBIT Communication K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information ab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Q 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Q-Siemens brand and strate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BIT product present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large version (zip-file) includes trailers and should be unzipped and saved to a disc for best performance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S.O.A. present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al presentation of the Call Control / Mobile Notifier feature of MP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is available for 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G2-native ph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16:57:02Z</dcterms:created>
  <dc:creator> </dc:creator>
  <dc:description/>
  <dc:language>en-US</dc:language>
  <cp:lastModifiedBy>dombrowskic</cp:lastModifiedBy>
  <dcterms:modified xsi:type="dcterms:W3CDTF">2006-03-02T14:25:49Z</dcterms:modified>
  <cp:revision>6</cp:revision>
  <dc:subject/>
  <dc:title>Change List</dc:title>
</cp:coreProperties>
</file>